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B677E-8710-4C31-8859-127ABFEC3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1C838-87B2-4CEB-8434-CC813AE1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B0E5-D6E1-4D58-9DB7-116E95BFF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EAFBC-D3A2-4695-A05F-7C75EC8B3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6B540-5D48-44DD-A522-F9123498E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917D-D723-4442-B920-5FE14D29B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7B65-007A-4CCE-9024-B8CCF227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B9B8-888E-4AD6-A75D-EFA9C5C07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82988-BF43-45C0-BDC5-5D2037B14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E6CE5-56B4-4F7E-932E-DC0ECE28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5F31-D6C9-4CEB-A40E-E7441E1B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90D0-EE23-44D6-85AF-12E8BDF38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75D4-201F-4003-97A1-36BE22BB5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C:\Users\Guest\Desktop\comp_i.jpg"/>
          <p:cNvPicPr/>
          <p:nvPr/>
        </p:nvPicPr>
        <p:blipFill>
          <a:blip r:embed="rId1"/>
          <a:stretch/>
        </p:blipFill>
        <p:spPr>
          <a:xfrm>
            <a:off x="5334120" y="1828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08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